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A365-B1D3-4A02-938F-6C40820B7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E051-D00D-43B5-A3DA-6D89CF94D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E662-A98E-45D3-95B0-DA8C1DA06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6C17-0021-4116-8583-93C6A8F24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888C-6260-4DD4-951F-9EAA5826F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409B-C2A2-4D38-A1C7-DA44C8E79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B8E1-FA88-4E90-B9A1-DB86D31BB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D2E8-E485-4AF1-86B5-D33DE92EE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9F6E-5BD1-4382-BCEE-C922F2132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90CC-6E21-4FA8-AA90-3BEBCC3D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4F97-C908-411F-BEAB-2B06B339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4734-D890-4760-BB0B-BE59D42E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11927-A317-4094-87A7-FCD237C122A5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4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5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6.png"/><Relationship Id="rId21" Type="http://schemas.openxmlformats.org/officeDocument/2006/relationships/image" Target="../media/image16.png"/><Relationship Id="rId22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4566" r="0" b="14803"/>
          <a:stretch/>
        </p:blipFill>
        <p:spPr>
          <a:xfrm>
            <a:off x="0" y="3068640"/>
            <a:ext cx="4427640" cy="38163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rcRect l="0" t="0" r="0" b="29050"/>
          <a:stretch/>
        </p:blipFill>
        <p:spPr>
          <a:xfrm>
            <a:off x="0" y="0"/>
            <a:ext cx="4427640" cy="3141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427640" y="6308640"/>
            <a:ext cx="4620960" cy="4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gency FB"/>
              </a:rPr>
              <a:t>By: Amy Chen, Bridget Panych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gency FB"/>
              <a:ea typeface="Agency FB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79280" y="260280"/>
            <a:ext cx="8785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gency FB"/>
              </a:rPr>
              <a:t>Genetically Modified Plants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gency FB"/>
              <a:ea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gency FB"/>
              </a:rPr>
              <a:t>Sourc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rebuchet MS"/>
              </a:rPr>
              <a:t>http://www.ornl.gov/sci/techresources/Human_Genome/elsi/gmfood.s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rebuchet MS"/>
              </a:rPr>
              <a:t>http://www.greenfacts.org/en/gmo/2-genetically-modified-crops/1-agricultural-biotechnology.htm#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rebuchet MS"/>
              </a:rPr>
              <a:t>http://recipes.howstuffworks.com/question148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rebuchet MS"/>
              </a:rPr>
              <a:t>http://www.trendhunter.com/trends/blue-rose-is-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宋体"/>
              </a:rPr>
              <a:t>Whitman, Deborah. Genetically Modified Foods: Harmful or Helpful. April 2000. http://www.csa.com/discoveryguides/gmfood/overview.ph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gency FB"/>
              </a:rPr>
              <a:t>Genetically Modified Plan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Trebuchet MS"/>
              </a:rPr>
              <a:t>Summar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rebuchet MS"/>
              </a:rPr>
              <a:t>Makes changes to the hereditary material of a living organism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rebuchet MS"/>
              </a:rPr>
              <a:t>Biotechnologies are used to develop plants resistant to pests, diseases, drought, heat, or cold, and improve the nutritional content of plant food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368316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n 2006, a total of 252 million acres of transgenic crops were planted in 22 countries by 10.3 million farm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Herbicide- and insect-resistant soybeans, corn, and cott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weet potato resistant to a virus that could decimate most of the African harv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Rice with increased iron and vitamins that may alleviate chronic malnutrition in Asian count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Variety of plants able to survive weather extre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00720" y="260280"/>
            <a:ext cx="4176720" cy="3054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rcRect l="0" t="0" r="0" b="10810"/>
          <a:stretch/>
        </p:blipFill>
        <p:spPr>
          <a:xfrm>
            <a:off x="5076720" y="3429000"/>
            <a:ext cx="31719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gency FB"/>
              </a:rPr>
              <a:t>Examples of GM Plan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526716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oundup, made by Monsanto (agriculture company)- a herbicide that kills any plant that it tou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reated “Roundup Ready” cr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rop ignores Roundup, but weeds are ki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oundup Ready seeds reduce production costs and increase yield, so food becomes less exp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cientists have inserted genes that produce a natural insecticide into corn pl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940360" y="3860640"/>
            <a:ext cx="2664000" cy="1779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940360" y="1790640"/>
            <a:ext cx="259236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gency FB"/>
              </a:rPr>
              <a:t>Genetically Modified Flow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4752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rebuchet MS"/>
              </a:rPr>
              <a:t>Blue Ro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Trebuchet MS"/>
              </a:rPr>
              <a:t>A Japanese company, Sun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Trebuchet MS"/>
              </a:rPr>
              <a:t>Delphinidin (produces blue pigmen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Trebuchet MS"/>
              </a:rPr>
              <a:t>Growing the rose experimentally in Australia and the United States to get approval for s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435640" y="1413000"/>
            <a:ext cx="3367080" cy="48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6000" spc="-1" strike="noStrike">
                <a:solidFill>
                  <a:srgbClr val="000000"/>
                </a:solidFill>
                <a:latin typeface="Agency FB"/>
                <a:ea typeface="宋体"/>
              </a:rPr>
              <a:t>Technolog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09560" y="1773360"/>
            <a:ext cx="577080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500" spc="-1" strike="noStrike">
                <a:solidFill>
                  <a:srgbClr val="000000"/>
                </a:solidFill>
                <a:latin typeface="Trebuchet MS"/>
                <a:ea typeface="宋体"/>
              </a:rPr>
              <a:t>Restriction enzyme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500" spc="-1" strike="noStrike">
                <a:solidFill>
                  <a:srgbClr val="000000"/>
                </a:solidFill>
                <a:latin typeface="Trebuchet MS"/>
                <a:ea typeface="宋体"/>
              </a:rPr>
              <a:t>Ligase enzyme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500" spc="-1" strike="noStrike">
                <a:solidFill>
                  <a:srgbClr val="000000"/>
                </a:solidFill>
                <a:latin typeface="Trebuchet MS"/>
                <a:ea typeface="宋体"/>
              </a:rPr>
              <a:t>Gene vector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500" spc="-1" strike="noStrike">
                <a:solidFill>
                  <a:srgbClr val="000000"/>
                </a:solidFill>
                <a:latin typeface="Trebuchet MS"/>
                <a:ea typeface="宋体"/>
              </a:rPr>
              <a:t>Donor gene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324000" y="976320"/>
          <a:ext cx="1133280" cy="18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976320"/>
                    <a:ext cx="113328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2771640" y="1336680"/>
          <a:ext cx="1743120" cy="16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71640" y="1336680"/>
                    <a:ext cx="174312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6012000" y="1407960"/>
          <a:ext cx="1495440" cy="1495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12000" y="1407960"/>
                    <a:ext cx="1495440" cy="14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7020000" y="3568680"/>
          <a:ext cx="1771560" cy="295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20000" y="3568680"/>
                    <a:ext cx="177156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3995640" y="4000680"/>
          <a:ext cx="1495440" cy="1914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95640" y="4000680"/>
                    <a:ext cx="1495440" cy="19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0" y="2992320"/>
          <a:ext cx="2682720" cy="3676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2992320"/>
                    <a:ext cx="2682720" cy="36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1403280" y="1768320"/>
          <a:ext cx="1584360" cy="690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403280" y="1768320"/>
                    <a:ext cx="1584360" cy="6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4284720" y="1697040"/>
          <a:ext cx="1584360" cy="690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284720" y="1697040"/>
                    <a:ext cx="158436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236000" y="1841400"/>
          <a:ext cx="1736640" cy="1685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236000" y="1841400"/>
                    <a:ext cx="1736640" cy="16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5580000" y="4505400"/>
          <a:ext cx="1657440" cy="9684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580000" y="4505400"/>
                    <a:ext cx="165744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" name="" descr=""/>
          <p:cNvPicPr/>
          <p:nvPr/>
        </p:nvPicPr>
        <p:blipFill>
          <a:blip r:embed="rId21"/>
          <a:stretch/>
        </p:blipFill>
        <p:spPr>
          <a:xfrm>
            <a:off x="2627280" y="4361040"/>
            <a:ext cx="1295280" cy="7570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828720" y="189000"/>
            <a:ext cx="7488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gency FB"/>
              </a:rPr>
              <a:t>Diagram of Proces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gency FB"/>
              <a:ea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000000"/>
                </a:solidFill>
                <a:latin typeface="Agency FB"/>
              </a:rPr>
              <a:t>Benefits</a:t>
            </a:r>
            <a:r>
              <a:rPr b="1" lang="zh-TW" sz="6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rebuchet MS"/>
              </a:rPr>
              <a:t>Cro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rebuchet MS"/>
                <a:ea typeface="宋体"/>
              </a:rPr>
              <a:t>Preventing malnutrition/dise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rebuchet MS"/>
                <a:ea typeface="宋体"/>
              </a:rPr>
              <a:t>Eliminating Pestici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rebuchet MS"/>
              </a:rPr>
              <a:t>Environmen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rebuchet MS"/>
              </a:rPr>
              <a:t>"Friendly" herbicides and insecticid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rebuchet MS"/>
              </a:rPr>
              <a:t>Conservation of soil, water, and energ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rebuchet MS"/>
              </a:rPr>
              <a:t>Better natural waste managemen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rebuchet MS"/>
              </a:rPr>
              <a:t>Socie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rebuchet MS"/>
              </a:rPr>
              <a:t>Increased food security for growing population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gency FB"/>
              </a:rPr>
              <a:t>Risks and Controversi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rebuchet MS"/>
              </a:rPr>
              <a:t>Safety</a:t>
            </a: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Human health impact: allergens, transfer of antibiotic resistance markers, unknown effec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rebuchet MS"/>
              </a:rPr>
              <a:t>Ethics</a:t>
            </a: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Violation of nature’s organism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Tampering with nature by mixing genes among speci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Objections to consuming animal genes in plan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4:52:09Z</dcterms:created>
  <dc:creator>ASUS</dc:creator>
  <dc:description/>
  <dc:language>en-US</dc:language>
  <cp:lastModifiedBy>HP</cp:lastModifiedBy>
  <dcterms:modified xsi:type="dcterms:W3CDTF">2008-03-05T12:41:10Z</dcterms:modified>
  <cp:revision>38</cp:revision>
  <dc:subject/>
  <dc:title>Genetically Modified Plants</dc:title>
</cp:coreProperties>
</file>